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C19-E217-4B96-9827-E380EB91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3C4-F721-4002-BB29-E58B0E3F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469-82F8-4A5E-A0BD-D66026E3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8FF-A90B-4A52-93B2-431572B3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101B-4C7F-430D-B900-75520AD3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284D-4A98-4DD3-A204-FA032C1C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DD24-6069-4656-B0B5-43CB1D96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5B8-01E4-45E3-8C69-F26C9327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BFE1-1FEC-43A0-8573-A080A4C6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637B-F4BD-4175-B51C-A21F1805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9A5A-1ABE-4C58-A04C-F73A9349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594-F6D3-40C6-9D5F-10C841CF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57E7-CF39-4F22-8C2C-9072C183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B288-0536-415F-9672-2F01080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6EE7-2451-4887-97AC-C2DD291C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333D-8149-42C9-83CE-A8002918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76A2-6C37-46DF-85F7-052C4080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372-AF37-45F2-8537-77F71E24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F29-BB6F-4DD3-BD71-EA517E21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BB8-3826-4005-BF3D-B0FD035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21B-41D6-471A-952E-6F76C539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8DA-99D2-48C4-918F-5ECFDE80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E68-7A95-4592-B2F7-5ACB2AD6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E3C-12C3-420F-B9FC-20CB0D63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F1A2-5F36-4F2A-85EE-9D5934F97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D2CC-9B72-481A-9637-7FBDA4E8CA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2943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лектромагнитна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нду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ь направление индукционного т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483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20840" y="1557360"/>
            <a:ext cx="8280360" cy="47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ЭДС индукции в проводнике длиной 0,25м, перемещающемся в магнитном поле с индукцией 4 Тл со скоростью 5м/с под углом 30 градусов к вектору магнитной инду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скорость изменения магнитного потока в соленоиде из 2000 витков при возбуждении в нем ЭДС индукции 120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основные понятия 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ь задачу: С какой скоростью должен двигаться проводник длиной  2м в магнитном поле с индукцией 3Тл, чтобы в нем возникла ЭДС 6В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ыты Эрстеда и Амп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>
            <a:grayscl/>
            <a:lum contrast="60000"/>
          </a:blip>
          <a:stretch/>
        </p:blipFill>
        <p:spPr>
          <a:xfrm>
            <a:off x="250920" y="1413000"/>
            <a:ext cx="3968640" cy="3728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2">
            <a:grayscl/>
            <a:lum contrast="42000"/>
          </a:blip>
          <a:stretch/>
        </p:blipFill>
        <p:spPr>
          <a:xfrm>
            <a:off x="4643280" y="2637000"/>
            <a:ext cx="4129200" cy="38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5072040" y="2500200"/>
            <a:ext cx="353556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428760" y="1714680"/>
            <a:ext cx="428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31 ГОДУ ОТКРЫЛ ЯВЛЕНИЕ ЭЛЕКТРОМАГНИТНОЙ ИН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магнитна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ду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магнитной индукцией называют явление возникновения электрического тока в замкнутом контуре под действием переменного магнитного по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дукционный ток можно получи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сительным движением катушки или магн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ыкая или размыкая первичную цеп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яя силу тока в первичной це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я источник переменного т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никновение ЭДС индук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55760" y="1413000"/>
            <a:ext cx="8280360" cy="480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675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ДС индукции в прямолинейном проводник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т от вектора 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ины прово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а между проводником и вектором 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 = B υ ℓ sin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ДС индукции в замкнутом контуре равна скорости изменения магнитного потока пронизывающего конту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2921040" y="3068640"/>
                <a:ext cx="307008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Ф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ΔФ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о Ленц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укционный ток всегда имеет такое направление, что его магнитное поле стремится помешать изменению магнитного поля вызывающего этот т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1649160" cy="3335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3581280" cy="14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3851280" y="5013360"/>
            <a:ext cx="4076640" cy="160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7:21:56Z</dcterms:created>
  <dc:creator>Колледж</dc:creator>
  <dc:description/>
  <dc:language>en-US</dc:language>
  <cp:lastModifiedBy>Таныгина</cp:lastModifiedBy>
  <dcterms:modified xsi:type="dcterms:W3CDTF">2020-02-06T08:18:24Z</dcterms:modified>
  <cp:revision>12</cp:revision>
  <dc:subject/>
  <dc:title>Электромагнитная индукция</dc:title>
</cp:coreProperties>
</file>